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4A1-E50C-475A-B89F-3AD9F6F4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AD3-FD0B-4E68-8E09-9D9E04D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66A-9BB8-48BF-8F3C-2008AD30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92D-5411-43C4-A1C2-6369762B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1E12-6ECF-40B0-A5CD-75765515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1D94-6B71-4FCB-9CAE-B96C849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5C63-7603-40F3-B27C-20CE8A54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0220-2A0E-413C-9B0F-26645989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8E09-6BAE-40B7-9CED-72EB9D71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F33B-6068-4ED5-A54F-355893B1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AD34-40F6-4D64-B9ED-F9638592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4A6-C743-462B-A1CF-DB6B93D5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9083-2C79-4E2A-ACA0-AD2983A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E33D-8629-428D-A89F-A28DB49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85AD-5582-42AA-A03B-D6D0E916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9887-1E86-466B-AB00-51CB0624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3CEF-1EAD-4229-8E74-EAA6E5B4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2EC8C-A276-417D-8DFF-005EC238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35C60-883C-44DE-9E14-B9885AA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024B-D45E-4D8A-AF87-411BEF78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1231F-EA94-46BC-B65F-6001E77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C197-8891-4B98-8841-A19DB27A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590-9741-4A76-9561-EC8865D7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9D2F-A86D-4FA9-8BA9-B7A91B53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2C7B-3370-4A93-99C0-C4B2649B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3A8C-8546-4343-A070-33DF997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BADC-0D7E-4550-9E2F-147E9D70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3860-1790-46F2-A901-2F615831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EC6C-CAB2-43E4-9509-EBD16763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B0B6-88D3-473F-9BED-6A0FA394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E91B-D5BE-48A1-88F0-0F6C7488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2957-CE9E-4BE9-A620-93E4F241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BAC8E-6CA3-4644-A53A-840057C8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AEC-8969-495B-8977-DA9BFB3C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81C53-B238-4493-8FCA-6DD84AFE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E25F2-5F7B-4F4D-BD73-71D8DAFB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833B-CE17-4E81-9F98-EC1E8D3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31FD-D75A-4547-9DDA-0456CD9F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65BF-2060-479D-9AA5-21D923CC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5E56-C82F-40C8-BF02-A1FB621B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29BBF-5D8E-4310-809A-AFB05DD0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3A43-455C-4422-A42C-4659FB7F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9968-E0A4-426B-9670-08E8410E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1DE-1589-4E14-B75C-C327ECCF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1BC-1467-41E6-AC69-A724736A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FE3-4912-4947-BC77-269CF9C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166-F233-457E-919E-613886BD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1AA-95FF-4648-9CC1-FC9C417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13AC-61B2-4F6D-999E-51D78EDAE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50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51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8EE4-95B6-4A6F-9758-F88E38B2B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sp>
          <p:nvSpPr>
            <p:cNvPr id="100" name=""/>
            <p:cNvSpPr/>
            <p:nvPr/>
          </p:nvSpPr>
          <p:spPr>
            <a:xfrm>
              <a:off x="380880" y="304920"/>
              <a:ext cx="8382240" cy="6172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44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0" y="0"/>
                  </a:moveTo>
                  <a:lnTo>
                    <a:pt x="144" y="144"/>
                  </a:lnTo>
                  <a:lnTo>
                    <a:pt x="144" y="3744"/>
                  </a:lnTo>
                  <a:lnTo>
                    <a:pt x="0" y="3888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440" y="303120"/>
              <a:ext cx="8383680" cy="23040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0" y="0"/>
                  </a:moveTo>
                  <a:lnTo>
                    <a:pt x="144" y="144"/>
                  </a:lnTo>
                  <a:lnTo>
                    <a:pt x="5136" y="144"/>
                  </a:lnTo>
                  <a:lnTo>
                    <a:pt x="5280" y="0"/>
                  </a:lnTo>
                  <a:lnTo>
                    <a:pt x="0" y="0"/>
                  </a:lnTo>
                </a:path>
              </a:pathLst>
            </a:custGeom>
            <a:solidFill>
              <a:srgbClr val="0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35960" y="303120"/>
              <a:ext cx="230040" cy="6174000"/>
            </a:xfrm>
            <a:custGeom>
              <a:avLst/>
              <a:gdLst/>
              <a:ahLst/>
              <a:rect l="l" t="t" r="r" b="b"/>
              <a:pathLst>
                <a:path w="145" h="3889">
                  <a:moveTo>
                    <a:pt x="144" y="0"/>
                  </a:moveTo>
                  <a:lnTo>
                    <a:pt x="0" y="144"/>
                  </a:lnTo>
                  <a:lnTo>
                    <a:pt x="0" y="3744"/>
                  </a:lnTo>
                  <a:lnTo>
                    <a:pt x="144" y="3888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6248520"/>
              <a:ext cx="8383680" cy="230040"/>
            </a:xfrm>
            <a:custGeom>
              <a:avLst/>
              <a:gdLst/>
              <a:ahLst/>
              <a:rect l="l" t="t" r="r" b="b"/>
              <a:pathLst>
                <a:path w="5281" h="145">
                  <a:moveTo>
                    <a:pt x="5280" y="144"/>
                  </a:moveTo>
                  <a:lnTo>
                    <a:pt x="5136" y="0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280" y="144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2F7B-8E86-4E2E-9FC1-A49202350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79440" y="303120"/>
            <a:ext cx="8386560" cy="6175440"/>
            <a:chOff x="379440" y="303120"/>
            <a:chExt cx="8386560" cy="6175440"/>
          </a:xfrm>
        </p:grpSpPr>
        <p:grpSp>
          <p:nvGrpSpPr>
            <p:cNvPr id="149" name=""/>
            <p:cNvGrpSpPr/>
            <p:nvPr/>
          </p:nvGrpSpPr>
          <p:grpSpPr>
            <a:xfrm>
              <a:off x="379440" y="303120"/>
              <a:ext cx="8386560" cy="6175440"/>
              <a:chOff x="379440" y="303120"/>
              <a:chExt cx="8386560" cy="6175440"/>
            </a:xfrm>
          </p:grpSpPr>
          <p:sp>
            <p:nvSpPr>
              <p:cNvPr id="150" name=""/>
              <p:cNvSpPr/>
              <p:nvPr/>
            </p:nvSpPr>
            <p:spPr>
              <a:xfrm>
                <a:off x="380880" y="304920"/>
                <a:ext cx="8382240" cy="6172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7944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0" y="0"/>
                    </a:moveTo>
                    <a:lnTo>
                      <a:pt x="144" y="144"/>
                    </a:lnTo>
                    <a:lnTo>
                      <a:pt x="144" y="3744"/>
                    </a:lnTo>
                    <a:lnTo>
                      <a:pt x="0" y="38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9440" y="303120"/>
                <a:ext cx="8383680" cy="23040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0" y="0"/>
                    </a:moveTo>
                    <a:lnTo>
                      <a:pt x="144" y="144"/>
                    </a:lnTo>
                    <a:lnTo>
                      <a:pt x="5136" y="144"/>
                    </a:lnTo>
                    <a:lnTo>
                      <a:pt x="52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5960" y="303120"/>
                <a:ext cx="230040" cy="6174000"/>
              </a:xfrm>
              <a:custGeom>
                <a:avLst/>
                <a:gdLst/>
                <a:ahLst/>
                <a:rect l="l" t="t" r="r" b="b"/>
                <a:pathLst>
                  <a:path w="145" h="3889">
                    <a:moveTo>
                      <a:pt x="144" y="0"/>
                    </a:moveTo>
                    <a:lnTo>
                      <a:pt x="0" y="144"/>
                    </a:lnTo>
                    <a:lnTo>
                      <a:pt x="0" y="3744"/>
                    </a:lnTo>
                    <a:lnTo>
                      <a:pt x="144" y="3888"/>
                    </a:lnTo>
                    <a:lnTo>
                      <a:pt x="144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0880" y="6248520"/>
                <a:ext cx="8383680" cy="230040"/>
              </a:xfrm>
              <a:custGeom>
                <a:avLst/>
                <a:gdLst/>
                <a:ahLst/>
                <a:rect l="l" t="t" r="r" b="b"/>
                <a:pathLst>
                  <a:path w="5281" h="145">
                    <a:moveTo>
                      <a:pt x="5280" y="144"/>
                    </a:moveTo>
                    <a:lnTo>
                      <a:pt x="5136" y="0"/>
                    </a:lnTo>
                    <a:lnTo>
                      <a:pt x="144" y="0"/>
                    </a:lnTo>
                    <a:lnTo>
                      <a:pt x="0" y="144"/>
                    </a:lnTo>
                    <a:lnTo>
                      <a:pt x="5280" y="144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534960" y="457200"/>
              <a:ext cx="77760" cy="4192560"/>
            </a:xfrm>
            <a:custGeom>
              <a:avLst/>
              <a:gdLst/>
              <a:ahLst/>
              <a:rect l="l" t="t" r="r" b="b"/>
              <a:pathLst>
                <a:path w="49" h="2641">
                  <a:moveTo>
                    <a:pt x="48" y="2640"/>
                  </a:moveTo>
                  <a:lnTo>
                    <a:pt x="0" y="0"/>
                  </a:lnTo>
                  <a:lnTo>
                    <a:pt x="48" y="47"/>
                  </a:lnTo>
                  <a:lnTo>
                    <a:pt x="48" y="264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457200"/>
              <a:ext cx="5564160" cy="77760"/>
            </a:xfrm>
            <a:custGeom>
              <a:avLst/>
              <a:gdLst/>
              <a:ahLst/>
              <a:rect l="l" t="t" r="r" b="b"/>
              <a:pathLst>
                <a:path w="3505" h="49">
                  <a:moveTo>
                    <a:pt x="3504" y="48"/>
                  </a:moveTo>
                  <a:lnTo>
                    <a:pt x="1" y="0"/>
                  </a:lnTo>
                  <a:lnTo>
                    <a:pt x="0" y="48"/>
                  </a:lnTo>
                  <a:lnTo>
                    <a:pt x="3504" y="4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3664-5608-41B6-B3F3-EC77FF253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ir, We Would See Jesu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of Christ – Part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e 1:1-5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C92B-F889-42F6-959D-FA096ECB3CF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ohn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charias doub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el declared that Zacharias would be mute until these things are  accomp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zabeth conceived and hid herself for five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518-6378-4A3D-9D0E-75318B526224}" type="slidenum">
              <a:t>10</a:t>
            </a:fld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ings Foretold About John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live his whole life as a “Nazarit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e “set apart” to serve God in a unique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filled with the Holy Spirit from bi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E64-7D21-462E-A676-9276065BD8BC}" type="slidenum">
              <a:t>11</a:t>
            </a:fld>
          </a:p>
        </p:txBody>
      </p:sp>
    </p:spTree>
  </p:cSld>
  <p:transition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esus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26-38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 months later, Gabriel appeared to Mary and announced the birth of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raculous virgin conception of the Holy Spi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516-2EF2-47E2-AB68-1BCDE6E34B27}" type="slidenum">
              <a:t>12</a:t>
            </a:fld>
          </a:p>
        </p:txBody>
      </p:sp>
    </p:spTree>
  </p:cSld>
  <p:transition>
    <p:random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ings About Jesus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26-38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lled “Jes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lled “Son of the Most High” and “Son of Go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would give Him the throne of His father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kingdom will never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Now we see the unfolding of God’s promises to Abraham and Davi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DC7-B5CA-4A74-B377-75F504875930}" type="slidenum">
              <a:t>13</a:t>
            </a:fld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esus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26-38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 months later, Gabriel appeared to Mary and announced the birth of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iraculous virgin conception of the Holy Spi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was filled with the Holy Spir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in Nazare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d to Joseph of the linage of David (Matthew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67A-2008-43C9-92C6-350A3D95BF10}" type="slidenum">
              <a:t>14</a:t>
            </a:fld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932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ary Visits Elizabeth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39-56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ary greeted Elizabeth, Mary’s cousi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izabeth’s baby leaped inside her wo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was filled with the Holy Spir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essed Mary among women and blessed the fruit of her wom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called Mary, “mother of my Lord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’s Song of Exultation and Pra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stayed with her about three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23F-68AB-4242-8A90-2EC40970CBC6}" type="slidenum">
              <a:t>15</a:t>
            </a:fld>
          </a:p>
        </p:txBody>
      </p:sp>
    </p:spTree>
  </p:cSld>
  <p:transition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CC7-1B6F-46F5-B720-E08B393EAF6D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les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birth of John the Baptist and the birth of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A78-A8A1-4777-9926-8F080A855956}" type="slidenum">
              <a:t>17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ible Histor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8960" y="1752480"/>
            <a:ext cx="3813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ttering of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5080" y="1752480"/>
            <a:ext cx="381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89040" indent="-68904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48769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DBF-13A0-4047-B040-009C840D3A07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307-2ACD-447A-8DF7-C7CD9D562576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ble 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tire bible story climaxes in the coming of the Christ and His 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important event in all human history was Deity coming to earth (Christ in human form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out this event, no one, not even the best of all the ages, could be saved for in Christ is sal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8EFD-28AF-4054-9661-CC9B5AB02B09}" type="slidenum">
              <a:t>4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asic Outlin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015-3B03-4964-92AE-830FC3771C2C}" type="slidenum">
              <a:t>5</a:t>
            </a:fld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Years of Preparation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rs the first thirty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rth of John the Bap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rth of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k of Joh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2BF-C3A1-4995-9008-C924AFF434C5}" type="slidenum">
              <a:t>6</a:t>
            </a:fld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ohn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briel, an angel, appeared to Zacharias, a prie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lared that Zacharias’ wife, Elizabeth, would bear a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723-588E-41EE-939A-F985647F5B39}" type="slidenum">
              <a:t>7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Zacharias and Elizabeth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he and his wife were a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d no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righteous before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of the course of Abij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 was of the daughters of Aar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job was to burn incense in the te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1C0-D65E-4441-BB91-6D155732AF03}" type="slidenum">
              <a:t>8</a:t>
            </a:fld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Birth of John Foretold </a:t>
            </a:r>
            <a:br>
              <a:rPr sz="32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uke 1:5-25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briel, an angel, appeared to Zacharias, a prie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lared that Zacharias’ wife, Elizabeth, would bear a 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’s mission foretold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ake ready a people prepared for the Lor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152-DAEF-407E-B352-223FA7EC694D}" type="slidenum">
              <a:t>9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1:28:52Z</dcterms:created>
  <dc:creator> Tab Vines</dc:creator>
  <dc:description/>
  <dc:language>en-US</dc:language>
  <cp:lastModifiedBy>Frank D Vines</cp:lastModifiedBy>
  <dcterms:modified xsi:type="dcterms:W3CDTF">2006-07-05T23:17:17Z</dcterms:modified>
  <cp:revision>22</cp:revision>
  <dc:subject/>
  <dc:title>Sir, We Would See Jesus</dc:title>
</cp:coreProperties>
</file>